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8DBC-182F-41C1-8204-F1BE72CE7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AB55-3C4F-4943-9D99-F599D35C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1BD3-DC3E-4B48-82C4-7CC89C71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4DE-77A8-4D10-8CA8-386FBFB5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0F23-B37B-4F62-BF22-044C61A3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3BE8-5942-46C5-B6B0-CC7F4AF2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83BC-3134-437B-9213-3D8567D9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0FFA-1A66-43A2-BBC1-8B47943B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AB38-D365-4640-BAD4-BFAB59F7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DA22-A68B-41F6-ADD6-2F5B6D5C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2F3A-E09D-4E9B-B9D4-E6DA827A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EC1D-3821-44AE-AEEE-40F2450B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3A36-4F89-454C-A3CD-5158CA05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A845-796F-42B4-AB1B-97BB600C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155B-72F1-4B12-8357-10C6AAA1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A3B1-F70C-4A15-8E19-48BA7753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A486-EAF7-4FE9-AD08-9C19C9F5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F98E-AA5F-41A4-89E6-9DEC7AD1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15F1-5514-41E7-B8B9-564AFB4A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2FC8-3D84-4295-ABEB-EB19DBB7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1E2E-FFB2-4622-AC4C-37D47356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136D-CB4D-4452-8100-DE1E85A0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3F6B-0F49-47E2-B5BD-0C73F9F5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E460-9413-45C3-B6CC-9FED6038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F1D9-4AA1-4773-BF2A-CC7E3194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B397-8C66-440C-A17C-AEB4D3841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B503-7742-4F6D-837D-0D45CCA6BD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ddess" TargetMode="External"/><Relationship Id="rId2" Type="http://schemas.openxmlformats.org/officeDocument/2006/relationships/hyperlink" Target="http://en.wikipedia.org/wiki/Mercantile" TargetMode="External"/><Relationship Id="rId3" Type="http://schemas.openxmlformats.org/officeDocument/2006/relationships/hyperlink" Target="http://en.wikipedia.org/wiki/Ti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sia Minor Standard 10.1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s is the area were most civilization began in prehistory and history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many water ways and food source the fertile crescent became the center of the universe to its peopl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It is believed that this area was an abundant food source to the hunters and gather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farming a bi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population of people emerged out of the lan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The people of the Asia Minor Standard 10.1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esopotamia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gyp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Sumeri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Aramae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Phoenici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Lydia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ertile_crescent_350"/>
          <p:cNvPicPr/>
          <p:nvPr/>
        </p:nvPicPr>
        <p:blipFill>
          <a:blip r:embed="rId2"/>
          <a:stretch/>
        </p:blipFill>
        <p:spPr>
          <a:xfrm>
            <a:off x="1905120" y="350532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Greek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 Greeks sprang out of three civilizations,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ino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ycenae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Dorian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19360" y="837720"/>
            <a:ext cx="4724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Both civilizations are known as the Aegean civilization which lived around the Mediterranean sea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28600" y="56386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6" descr="asiaminormap"/>
          <p:cNvPicPr/>
          <p:nvPr/>
        </p:nvPicPr>
        <p:blipFill>
          <a:blip r:embed="rId1"/>
          <a:stretch/>
        </p:blipFill>
        <p:spPr>
          <a:xfrm>
            <a:off x="4495680" y="3124080"/>
            <a:ext cx="2800440" cy="261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Minoan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inoans lived on the islands off Greec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Minoans culture is often characterized as a society centered on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ddess</a:t>
            </a: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worship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Minoans were primarily a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mercantil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eople engaged in overseas trade. Many historians and archaeologists believe that the Minoans were involved in the Bronze Age's important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ti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rade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Knossos_bull"/>
          <p:cNvPicPr/>
          <p:nvPr/>
        </p:nvPicPr>
        <p:blipFill>
          <a:blip r:embed="rId4"/>
          <a:stretch/>
        </p:blipFill>
        <p:spPr>
          <a:xfrm>
            <a:off x="1447920" y="1295280"/>
            <a:ext cx="5165640" cy="337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were the Mycenaen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he Mycenaens lived on the main land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Mycenaean civilization was dominated by a warrior aristocracy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Not only did the Mycenaeans defeat the Minoans, but according to legend, they defeated Troy, a powerful city-stat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The Mycenaean period flourished between 1600BC and the collapse of their Bronze-Age civilization around 1100BC.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ap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09" name="Picture 5" descr="europa-popoli"/>
          <p:cNvPicPr/>
          <p:nvPr/>
        </p:nvPicPr>
        <p:blipFill>
          <a:blip r:embed="rId1"/>
          <a:stretch/>
        </p:blipFill>
        <p:spPr>
          <a:xfrm>
            <a:off x="4038480" y="762120"/>
            <a:ext cx="4870440" cy="58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edseamaplarge"/>
          <p:cNvPicPr/>
          <p:nvPr/>
        </p:nvPicPr>
        <p:blipFill>
          <a:blip r:embed="rId2"/>
          <a:stretch/>
        </p:blipFill>
        <p:spPr>
          <a:xfrm>
            <a:off x="0" y="76212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152280" y="5410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How the Greeks became a civilization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overtook the Minoans and the two merg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became powerful, but civil war weakened its strong fortresses and when invaders came they were easily overtak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invaders were the Dorians who spoke the Greek languag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With the invaders the lost of many skills followed. Skills such as writing and boat making. This was know as the Dark Age for Greec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066680" y="5943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ime Lin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inoans 2500 B.C. -1450 B.C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ycenaeans 2000 B.C.- 1150 B.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Dorians 1150B.C – 700B.C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(Dark Age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The Greeks (HELLENIC) emerged from the mix of these three civilizations to rule from 700B.C. to 336  B.C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hat we know as the Greeks were influenced more by the culture of these three civilization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23440" y="57913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01:38:55Z</dcterms:created>
  <dc:creator>Jason lundblad</dc:creator>
  <dc:description/>
  <cp:keywords/>
  <dc:language>en-US</dc:language>
  <cp:lastModifiedBy>RomaK</cp:lastModifiedBy>
  <dcterms:modified xsi:type="dcterms:W3CDTF">2015-09-04T09:35:56Z</dcterms:modified>
  <cp:revision>5</cp:revision>
  <dc:subject/>
  <dc:title>Who are the Greek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01033</vt:lpwstr>
  </property>
</Properties>
</file>